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2CFF27-6776-48B3-B8A1-6E30F8FF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F7E870-F0ED-4AF3-BA9E-946B5213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C969DA-5F3C-4DAA-8FA4-C7363178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D3031D-2858-4BC8-B531-46683231E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97B023-6919-49D8-AE9D-7F5F10C9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593494-70DC-43C3-9427-DD6D1898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500-273D-40E3-977F-2507FB37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3C2-85C5-4DC7-B7EC-BDBA5A9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05A-1485-4B8C-A389-3A47BC91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95-7ACB-4C20-9D90-24EAF66F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38BF-4049-4D60-B018-6367911C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7C20-8FB2-4245-8916-E510F91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F8C-5734-4CC1-BFCA-E853844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AA69-8727-4299-956F-9DCD943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A6A2-62A6-4417-9A1A-A917DB9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E3C3-8EE4-4C37-A779-3A99964C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BDE7-2075-427E-89FB-048D4CE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B9E-3935-451F-A7D8-58021DF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23B-2472-4B00-BE2E-CA35275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856-FAF5-42A6-8DAF-9A32789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132-7950-4A77-9E08-FDCC81A9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0B80-F2AC-4AC4-B852-4EF57A11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D81B-401C-465A-A28B-127D0CFC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553D-1314-4655-93CA-A524360F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36A2-D6D3-4631-AB99-08C42CBE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B206-849C-4435-A193-46C10E54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BBC7-55EE-4E8D-990D-C0D298B7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3F50-C19B-4412-9C67-DBB1429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77C-3230-42EA-B91B-FD408296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8DD9-6EC3-4EBC-959F-C7F9DE30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D8D9-F34B-40FC-8BFA-3E0CE18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5C89-27A5-4E2E-849F-6D9EEA0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609F-8564-4C5C-B50F-24389F6A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DD30-6C48-44B5-93AC-94233D6D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5477-674F-4446-9219-1CC4BBA4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B052-89F6-4A5E-B5E5-4A8F5BE5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8E17-1029-4C07-824E-5C4A4E52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C990-AE97-420A-BB80-C2669A93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77FC-6FE3-420A-85FC-8E18277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AD6-3F05-40A1-9F02-DE3CE1C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8CD0-F749-482A-9B3D-A16760F1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8F83-0C65-4A52-92E7-C1ABB748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E424-3404-4137-8CA6-9DD7D98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112E-C276-4FDB-87F3-CA8DF0A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85AE-86B7-46F1-AB71-10FFBAF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E5C0-739F-4D82-B327-1304D86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4739-550A-43AB-8357-954AAA3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45AF-4F7C-4DC4-9CD6-0B3D1AF9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24BA-A134-49A2-8F7B-50837AF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F12-9426-48BD-B678-57120C1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6FC-A0C5-4772-9F1C-D5B8C68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B25-7826-445B-A911-AF6E093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A3E-CB09-41BC-BCEF-8AF2BCF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709-5E03-47B9-AAE4-57676C3E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A64-CBD0-4374-9BDE-1711244658FA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D33-5BD4-4AB1-9914-43A4A99096F9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E80-2593-44DB-B20D-45A3BB612E4E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954-D64A-4321-A55C-B5D9E5B1995C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tion Research Presentation</a:t>
            </a:r>
            <a:br>
              <a:rPr sz="5400"/>
            </a:br>
            <a:r>
              <a:rPr b="1" lang="en-US" sz="5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000"/>
            </a:br>
            <a:r>
              <a:rPr b="1" lang="en-US" sz="5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reading fluency and comprehension </a:t>
            </a:r>
            <a:br>
              <a:rPr sz="54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80880" y="373392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28600" y="642600"/>
            <a:ext cx="8686800" cy="59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arton-Arwood, S. M., Wehby, J. H., &amp; Falk, K. B. (2005). Reading instruction for elementary-ag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 with emotional and behavioral disorders: academic and behavioral outcome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xceptional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ang, A. C., &amp; Millett, S. (2015). Improving reading rates and comprehension through audio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xtensive reading for beginner learner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1-102. doi:10.1016/j.system.2015.05.003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alton, B., &amp; Grisham, D. L. (2011). eVoc strategies: 10 ways to use technology to build vocabulary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5), 306-31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whower, S. L. (1987). Effects of repeated reading on second-grade transitional readers'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omprehension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steves, K. J., &amp; Whitten, E. (2011). Assisted reading with digital audio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isabilitie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Horiz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alth, L., Gustafson, S., Tjus, T., Heimann, M., &amp; Svensson, I. (2013). Computer-assisted interventions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argeting reading skills of children with reading disabilities: A longitudinal stud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yslex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37-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3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Gibson, L., Cartledge, G., &amp; Keyes, S. E. (2011). A preliminary investigation of supplement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omputer-assisted reading instruction on the oral reading fluency and comprehension of first-grad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frican American urban student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Behavioral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260-282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bility: A single-subject experimental research study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Horiz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upt, J. j. (2015). The use of a computer-based reading rate development program on pre-university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mediate level ESL learners' reading speeds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Matrix: An International Onlin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-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awkins, R. O., Marsicano, R., Schmitt, A. J., McCallum, E., &amp;Musti-Rao, S. (2015). Comparing th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fficiency of repeated reading and listening-while-reading to improve fluency and comprehension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and Treatment of 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49-70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oman, S. P., &amp; Klesius, D. (1993). Effects of repeated readings and non-repetitive strategies o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udents' fluency and comprehension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Educational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94-99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why, and how?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zzo, M. V., Yurick, A., &amp; McArrell, B. (2009). Supported eText: Effects of text-to-speech on access an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chievement for high school students with disabilitie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Special Education Techn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9-20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şkaya, A. a. (2016). Improving reading fluency and reading comprehension with NIM-assiste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ing: an activity research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&amp; Science / EgitimVeBili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85), 281-297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eyes, S. s., Cartledge, G., Gibson Jr., L., &amp; Robinson-Ervin, P. (2016). Programming for generalization of 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 &amp; Treatment of Childr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skinen, P. S., Blum, I. H., Bisson, S. A., Phillips, S. M., Creamer, T. S., &amp; Baker, T. K. (2000). Boo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ccess, shared reading, and audio models: the effects of supporting the literacy learning o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inguistically diverse students in school and at hom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ournal of Educational Psyc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23-36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aitusis, C. C. (2010). Examining the impact of audio presentation on tests of reading comprehensio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pplied Measurement in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53-16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arson, L. C. (2015). E-books and audiobooks: Extending the digital reading experience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Teac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2), 169-17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152280" y="380880"/>
            <a:ext cx="8839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ngland Reading Association 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asinski, T. (2004). Creating fluent reader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al Leadersh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6), 46-5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aine, N. L., Lerkkanen, M., Ahonen, T., Tolvanen, A., &amp; Lyytinen, H. (2010). Predicting word-leve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fluency outcomes in three contrastive groups: Remedial and computer-assisted remedi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intervention, and mainstream instruction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&amp; Individual Differ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5), 402-414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aine, N. L., Lerkkanen, M., Ahonen, T., Tolvanen, A., &amp; Lyytinen, H. (2011). Computer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medial reading intervention for school beginners at risk for reading disability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il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1013-1028. doi:10.1111/j.1467-8624.2011.01580.x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tevens, R. J. (2006). Developing reading fluency: what does the research say?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atalyst For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wain, K. D., Leader-Janssen, E. M., &amp; Conley, P. (2013). Effects of repeated reading and listen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assage preview on oral reading fluenc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Improv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2-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uchi, E., Gorsuch, G., Takayasu-Maass, M., &amp; Snipp, K. (2012). Assisted repeated reading with a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-level Japanese EFL reader: A longitudinal diary study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In a Foreign Langu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 30-55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fluency building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Matrix: An International Online Jour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rien, W. J. (2004). Fluency and comprehension gains as a result of repeated reading a meta-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orgesen, J. K., Wagner, R. K., Rashotte, C. A., Herron, J., &amp; Lindamood, P. (2010). Computer-assiste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instruction to prevent early reading difficulties in students at risk for dyslexia: Outcomes from two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instructional approaches.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nnals of dyslex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1), 40-5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Webb, S., &amp; Chang, A. C. (2012). Vocabulary learning through assisted and unassisted repeated reading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anadian Modern Language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3), 267-29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able of Contents: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lated Literatur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 …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-5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 ………………………..…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sts …………………………….…..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Hypothesis 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 (N) 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(s) ……………………………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…………………………………  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-12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tement of Problem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2280" y="11426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efining characteristic of good readers. Lack of fluency is a common characteristic of poor readers and a predictor of reading comprehension problem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udson, Lane, &amp; Pullen, 2005; Stevens, 2006; Kaşkaya, 2016; Taguchi, Melhem, &amp; Kawaguchi, 2016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f different ages and reading levels, especially English Language Learners (ELL) and students with learning disabilities have problems with fluency and comprehens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rien, 2004; Swain, Leader-Janssen, &amp; Conley, 2013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fluency is an important academic skill, enabling students to acquire content knowledge needed for other subject are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ibson, Cartledge, &amp; Keyes, 2011; Rasinski, &amp; Young, 2014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28600" y="753480"/>
            <a:ext cx="8839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sinski (2014) emphasized that assisted reading was a promising approach that provided readers with powerful scaffolding, which empowered students to read faster and comprehend bett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Rasinski, 2014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uchi, Melhem, &amp; Kawaguchi, 2016; Hawkins, Marsicano, Schmitt, McCallum, &amp; Musti-Rao, 2015; Hapstak, &amp; Tracey, 2007)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assisted reading techniques can be used, such as repeated reading, audio-assisted reading, digital audio books, oral reading, partner reading, assisted close reading, et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lth, Gustafson, Tjus, Heimann, &amp; Svensson, 2013; Gibson, Cartledge, &amp; Keyes, 2011; Dalton, &amp; Grisham, 2011; Saine, Lerkkanen, Ahonen, Tolvanen, &amp; Lyytinen, 2011; Torgesen, Wagner, Rashotte, Herron, &amp; Lindamood, 2010)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zo,Yurick, and McArrell stressed that assistive technologies (audio books, computer programs, digital texts, translational supports, etc.) enhance reading outcomes for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zzo et al., 2009; Barton-Arwood, Wehby, &amp; Falk, 2005; Laitusis, 2010; Esteves &amp; Whitten, 2011; Haupt, 2015; Saine, Lerkkanen, Ahonen, Tolvanen, &amp; Lyytinen, 2010 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228600" y="781560"/>
            <a:ext cx="8686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. (continued)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 and Millett (2015) claimed that the audio-assisted reading showed high improvement in reading rates and comprehension in experimental grou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ang &amp; Millett, 2015; Koskinen, Blum, Bisson, Phillips, Creamer, &amp; Baker, 2000;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son, 2015 ).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rien (2004) researched this topic and concluded that the repeated reading was an evidenced-based strategy designed to increase reading fluency and comprehens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rien, 2004; Homan, &amp; Klesius, 1993; Taguchi, Gorsuch, Takayasu-Maass, &amp; Snipp, 2012).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other study, Stevens (2006) concluded that high quantity and high quality practice in oral reading as the most effective technique for developing of all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evens, 2006; Hudson, Lane, &amp; Pullen, 2005; Rasinski, &amp; Young, 2014 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0520" y="609480"/>
            <a:ext cx="8610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arly as in 1987, Dowhower already spoke about some limitations that need to be taken into consideration in such action research projec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whower, 1987)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aid that other variables may affect result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sonal characteristics of studen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whower, 1987 ; Webb, &amp; Chang, 2012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arning and physical disabilities of stud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ize of a group and amount of time spent practicing rea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wain, Leader-Janssen, &amp; Conley, 2013; Webb, &amp; Chang, 2012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qualifications of teach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eyes, Cartledge, Gibson, &amp; Robinson-Ervin, 2016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her parallel interven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le 5"/>
          <p:cNvSpPr/>
          <p:nvPr/>
        </p:nvSpPr>
        <p:spPr>
          <a:xfrm>
            <a:off x="53352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eorists  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380880" y="1016640"/>
            <a:ext cx="85345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Calibri"/>
              </a:rPr>
              <a:t>Dewey/ Gardner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ll children are different and unique in their personalities, interests, academic abilities, and ways of thinking. 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It is important to allow students to study in a manner that reflects their own differences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With help of individual instruction, a teacher can help a child develop skills by educating and training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Calibri"/>
              </a:rPr>
              <a:t>Vygotsky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Instruction can begin with activation of prior knowledge.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 teacher implement assisted reading strategies, with differentiation for those who need it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  <a:p>
            <a:pPr indent="457200">
              <a:lnSpc>
                <a:spcPct val="100000"/>
              </a:lnSpc>
              <a:buClr>
                <a:srgbClr val="21b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A scaffolding method (additional instruction/ modeling/ guiding) - the way to gradually release of responsibility - from guided work to independent practice. 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5"/>
          <p:cNvSpPr/>
          <p:nvPr/>
        </p:nvSpPr>
        <p:spPr>
          <a:xfrm>
            <a:off x="53352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tement of Hypothesis 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04920" y="123516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s of the repeated outloud reading and audio-assisted reading, three times per week for 45 minutes per session over two months period will improve both fluency and reading comprehension of a group of 10 students in a mainstream classroom, at the local public school X in Brooklyn, New York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0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2960640" y="3962520"/>
            <a:ext cx="2982960" cy="259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oup of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: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s old,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rd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haracteristics: English Language Learners (ELL); 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udents was evaluated for an IEP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s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, headphones, audio books, textbooks, consent forms, tests, and table of record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and effects of the intervention will be measured in form of the series of tests: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-test, 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st-t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itle 5"/>
          <p:cNvSpPr/>
          <p:nvPr/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ethod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aksanasam</cp:lastModifiedBy>
  <dcterms:modified xsi:type="dcterms:W3CDTF">2016-11-29T15:33:39Z</dcterms:modified>
  <cp:revision>151</cp:revision>
  <dc:subject/>
  <dc:title>Gender Paradigms &amp; Theories   What’s in the R2 ??</dc:title>
</cp:coreProperties>
</file>